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D80-69E9-420C-8BEE-6F3FE3C7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647-9BC4-4F95-AA08-A672F133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58E-A8FA-4E3C-8D55-0DEB7BE6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047-6213-4391-AF8D-BB93AC7E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248-96F4-4460-A1EB-6C045D8C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329-E47D-43E7-9131-2E27AB39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532-69D3-4713-9AF8-F6E37D0D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19F-650E-4E4F-8746-9497578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2D5-F1B9-459D-ADD9-CE76C36D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02E-8E2E-4D4A-A815-607DE374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B93-8123-4CB2-9DA1-92749300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E7B-FA6E-4582-BE67-A22BD737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2815-47A6-40B8-854B-EF2C7FC07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florida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flags/florida/floridaflag.sht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enchantedlearning.com/usa/states/florida/" TargetMode="External"/><Relationship Id="rId6" Type="http://schemas.openxmlformats.org/officeDocument/2006/relationships/hyperlink" Target="http://www.enchantedlearning.com/usa/states/florida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Mockingbirdprintout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jewelrymall.com/cgibin/xlinker.cgi?loc=123&amp;lf=123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jewelrymall.com/stones/moonstone.html#pictures" TargetMode="External"/><Relationship Id="rId6" Type="http://schemas.openxmlformats.org/officeDocument/2006/relationships/hyperlink" Target="http://www.enchantedlearning.com/usa/states/florida/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50states.com/flower/florida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3600" y="46483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48769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1066680"/>
            <a:ext cx="48769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lorida</a:t>
            </a:r>
            <a:endParaRPr b="0" lang="en-US" sz="1800" spc="1" strike="noStrike">
              <a:ln w="25560">
                <a:solidFill>
                  <a:srgbClr val="9933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Capital: Tallahasse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Population: 15,982,37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Entered the Union: March 3</a:t>
            </a:r>
            <a:r>
              <a:rPr b="0" lang="en-US" sz="2700" spc="-1" strike="noStrike" baseline="30000">
                <a:solidFill>
                  <a:srgbClr val="00aad2"/>
                </a:solidFill>
                <a:latin typeface="Bauhaus 93"/>
              </a:rPr>
              <a:t>rd</a:t>
            </a: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, 184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Number entered: 27</a:t>
            </a:r>
            <a:r>
              <a:rPr b="0" lang="en-US" sz="2700" spc="-1" strike="noStrike" baseline="30000">
                <a:solidFill>
                  <a:srgbClr val="00aad2"/>
                </a:solidFill>
                <a:latin typeface="Bauhaus 93"/>
              </a:rPr>
              <a:t>th</a:t>
            </a: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Motto: In God We Tru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Nickname: Sunshine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Flower: Orange Bloss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Bird: Mockingbi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Song: Swanee Riv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Meaning behind name: Spanish-meaning, flowery, but also suggesting Easter, when the name was giv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empus Sans ITC"/>
              </a:rPr>
              <a:t>Interesting 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Many tourist attractions- Disney World, Epcot, Universal Stu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Various outdoor activities- Biking, boating, swimming, diving, picni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Fort Lauderdale is known as Venice of America because the city has 185 miles of local water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Gem-Moon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Cape Canaveral is America’s launch pad for space 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2652840" cy="24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4038480"/>
            <a:ext cx="2743200" cy="183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6200" y="2057400"/>
            <a:ext cx="4191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nchantedlearning.com/usa/states/flori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029200"/>
            <a:ext cx="4191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flori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762120"/>
            <a:ext cx="140796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429000"/>
            <a:ext cx="166212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3429000"/>
            <a:ext cx="2743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ston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onstone Jewelry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jewelrymall.com/stones/moonstone.html#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8380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flori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19920" y="1349280"/>
            <a:ext cx="2361960" cy="180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72200" y="3809880"/>
            <a:ext cx="2133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 State Flow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ange Blossom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50states.com/flower/florid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457200" y="1752480"/>
            <a:ext cx="4724280" cy="314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51814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kula Springs Sate Park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3-11, http://www.postcardsfrom.com/t1/0003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© 2000 WriteLine. Orange Blossom"/>
          <p:cNvPicPr/>
          <p:nvPr/>
        </p:nvPicPr>
        <p:blipFill>
          <a:blip r:embed="rId2"/>
          <a:stretch/>
        </p:blipFill>
        <p:spPr>
          <a:xfrm>
            <a:off x="5791320" y="4191120"/>
            <a:ext cx="2819160" cy="220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67280" y="2743200"/>
            <a:ext cx="2819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 State Stamp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3-11, http://www.postcardsfrom.com/stamp/stamp-f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© 1998 WriteLine. Mockingbird"/>
          <p:cNvPicPr/>
          <p:nvPr/>
        </p:nvPicPr>
        <p:blipFill>
          <a:blip r:embed="rId3"/>
          <a:stretch/>
        </p:blipFill>
        <p:spPr>
          <a:xfrm>
            <a:off x="6095880" y="304920"/>
            <a:ext cx="21178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3808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ass-bottom boat glides across glassine waters where the aqua shore meets the indigo depths of Florida's deepest freshwater sp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380880" y="18288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 rot="10800000">
            <a:off x="380520" y="510444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ld and New State Capitals, Tallahasse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3-11, http://www.postcardsfrom.com/t1/00032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© 2000 WriteLine. Sabal Palm"/>
          <p:cNvPicPr/>
          <p:nvPr/>
        </p:nvPicPr>
        <p:blipFill>
          <a:blip r:embed="rId2"/>
          <a:stretch/>
        </p:blipFill>
        <p:spPr>
          <a:xfrm>
            <a:off x="6095880" y="457200"/>
            <a:ext cx="2062440" cy="2590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91320" y="3657600"/>
            <a:ext cx="27432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 State Stamp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3-11, http://www.postcardsfrom.com/stamp/stamp-f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572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's new Capitol, a 1977 skyscraper, towers behind the old in gleaming white moder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17:28Z</dcterms:created>
  <dc:creator>install</dc:creator>
  <dc:description/>
  <dc:language>en-US</dc:language>
  <cp:lastModifiedBy>install</cp:lastModifiedBy>
  <dcterms:modified xsi:type="dcterms:W3CDTF">2011-03-16T15:55:32Z</dcterms:modified>
  <cp:revision>9</cp:revision>
  <dc:subject/>
  <dc:title>Slide 1</dc:title>
</cp:coreProperties>
</file>